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6080-A4DA-4AC6-B282-B0F88E6AF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04DB-C1C0-453C-B640-18F14D1466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835C-3700-44BE-91BD-F3C64B07EF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FCB1-DFBC-4C69-8454-048A756FD6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B522-88F0-49FA-9514-A83A14E633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0230-1738-4991-B3FD-7A8A1B51A4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FE5E-8F31-4DA5-99DA-B74580B125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C956-64FF-414C-8BC4-6269E5EEB1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DD7F-68E5-4360-9715-CB2E89FED9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37B3-18BD-4DAF-B665-AD9C60C59B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462F-E9F3-4EA8-968A-6FA6E0005C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28FA-A9D8-43CF-94F4-570B44A338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1366-B71A-4737-8EC8-2394158C47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A69D-9CEC-4319-9B5D-89F606E45F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3FF0-142E-48C3-8DC1-EA3609229B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0E2B-84AB-4EF8-9026-A95D22FB45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DBE2-54F9-4A51-B3A1-37869DBD02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5A1B-A06A-4EE0-998C-402492F3C9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AF3E-FAA9-4985-873B-1B2502A963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07DD-111B-46A2-8F86-A815218DD5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DD01-F19B-4C20-A40E-61C0F23D9F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B354-48A7-41B7-B8D3-42A6D0DE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3933-95AF-4323-87F6-1F4F60C7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0456-E22F-489C-9EBD-62ED1D71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A66-8601-4971-B1A3-41762E9C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1982-E8B0-4C3F-BA37-466CAA69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BD91-AC26-4BB6-8E94-F206D184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23C3-74E8-4497-AAAC-D837B86E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CCC6-B5EA-4E30-BE90-95A8C2AC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ED7A-D5C5-4A65-9FD8-4C8B6787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38B3-6492-4B2C-BD26-A8AA01A4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745E-60FF-49F3-AFFD-38F81140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2385-EFF9-4BED-B285-1C350134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27BE-E210-4F6E-A27B-E190780C71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The Five DYSFUNCTIONS of TEAM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c08d"/>
                </a:solidFill>
                <a:latin typeface="Arial"/>
              </a:rPr>
              <a:t>Lack of COMMITMEN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bigu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not having clear understa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team is committed to their job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inability to move beyond deb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7" descr="MPj04392530000[1]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Suggestions for overcoming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cading messaging-10min, take a moment to speak and assure that all team members agree on what needs to take place n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dlines- commitment to clear deadli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-Risk exposure therapy- a team forces themselves to make a de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c08d"/>
                </a:solidFill>
                <a:latin typeface="Arial"/>
              </a:rPr>
              <a:t>Avoidance of ACCOUNTABILITY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ar of calling a teammate on their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re is no buy-in then people will not hold each other accoun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7" descr="MPj04373230000[1]"/>
          <p:cNvPicPr/>
          <p:nvPr/>
        </p:nvPicPr>
        <p:blipFill>
          <a:blip r:embed="rId1"/>
          <a:stretch/>
        </p:blipFill>
        <p:spPr>
          <a:xfrm>
            <a:off x="457200" y="18288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Suggestions for overcoming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ation of goals and standards- set the behavioral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and Regular Progress Reviews- give feedback on behavioral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 rewards- shifting the rewards away from individual performance to team achie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at it takes to make a team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rity around the major goal/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sting your teamm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ting go of the ego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lict/debate, eliminating con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i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un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How do we get the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ad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t is able to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the tone for the focus of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self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rid of the members that are not ready, cut out for, or don’t plan to work toward the vision of the school/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Possible Method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nual pla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   retreats off-site(3days) to discuss things like budgets successful planning or cascading messa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arterly staff meet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f-site(2days) to discuss strategic discussions, employee performance, key issues team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ekly staff meet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-site(2 hours) discussions on goal progress, customer review, tactical issues, resolution, cascading 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 hoc topical meet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  on-site(2 hours) discussions on strategic issues that cannot be adequately discussed during weekly staff meet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Educational Method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ach school should a similar method of meeting style.  It is how well do we disburse the information given, are we fully present or even present at all for that matt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r school model (we have three schools in one build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dership meetings (on-site, monthly, 1-2 hou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T team ( on-site, monthly, 1 hou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artment meetings (on-site, monthly, 30-45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x meetings (on-site, monthly,1 hou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 meetings (on-site, monthly,1 hou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shops (off-site, quarterly, 4-6 hou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work ultimately comes down to practicing a small set of principles over a long period of time (Lencioni,200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o acknowledge the imperfections of our school so that we can act as a functional te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Key Point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elfl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obje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e rew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e recognition for real contributions that are for the achievement of the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brace common sense with uncommon levels of discipline and persist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ize individualistic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s distr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fc08d"/>
                </a:solidFill>
                <a:latin typeface="Arial"/>
              </a:rPr>
              <a:t>What makes a team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i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un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7" descr="MPj04306300000[1]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ncioni, Patrick. 2002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The FIVE dysfunctions of a TEAM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ssey-Boss Publication, San Francisco, C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The Model of Chang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grpSp>
        <p:nvGrpSpPr>
          <p:cNvPr id="54" name="SmartArt Placeholder 21510"/>
          <p:cNvGrpSpPr/>
          <p:nvPr/>
        </p:nvGrpSpPr>
        <p:grpSpPr>
          <a:xfrm>
            <a:off x="2436840" y="2013120"/>
            <a:ext cx="4270320" cy="3698280"/>
            <a:chOff x="2436840" y="2013120"/>
            <a:chExt cx="4270320" cy="3698280"/>
          </a:xfrm>
        </p:grpSpPr>
        <p:sp>
          <p:nvSpPr>
            <p:cNvPr id="55" name="_s1028"/>
            <p:cNvSpPr/>
            <p:nvPr/>
          </p:nvSpPr>
          <p:spPr>
            <a:xfrm flipV="1">
              <a:off x="4145040" y="2013120"/>
              <a:ext cx="853920" cy="739440"/>
            </a:xfrm>
            <a:custGeom>
              <a:avLst/>
              <a:gdLst>
                <a:gd name="textAreaLeft" fmla="*/ 306360 w 853920"/>
                <a:gd name="textAreaRight" fmla="*/ 547560 w 853920"/>
                <a:gd name="textAreaTop" fmla="*/ 265320 h 739440"/>
                <a:gd name="textAreaBottom" fmla="*/ 474120 h 73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8c7b7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esul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_s1029"/>
            <p:cNvSpPr/>
            <p:nvPr/>
          </p:nvSpPr>
          <p:spPr>
            <a:xfrm flipV="1">
              <a:off x="3718080" y="2751840"/>
              <a:ext cx="1707840" cy="739800"/>
            </a:xfrm>
            <a:custGeom>
              <a:avLst/>
              <a:gdLst>
                <a:gd name="textAreaLeft" fmla="*/ 375480 w 1707840"/>
                <a:gd name="textAreaRight" fmla="*/ 1332360 w 1707840"/>
                <a:gd name="textAreaTop" fmla="*/ 162720 h 739800"/>
                <a:gd name="textAreaBottom" fmla="*/ 577080 h 73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c7b7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ccountabil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_s1030"/>
            <p:cNvSpPr/>
            <p:nvPr/>
          </p:nvSpPr>
          <p:spPr>
            <a:xfrm flipV="1">
              <a:off x="3290760" y="3491640"/>
              <a:ext cx="2562480" cy="739800"/>
            </a:xfrm>
            <a:custGeom>
              <a:avLst/>
              <a:gdLst>
                <a:gd name="textAreaLeft" fmla="*/ 444600 w 2562480"/>
                <a:gd name="textAreaRight" fmla="*/ 2117880 w 2562480"/>
                <a:gd name="textAreaTop" fmla="*/ 128160 h 739800"/>
                <a:gd name="textAreaBottom" fmla="*/ 611640 h 73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8c7b7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mmit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_s1031"/>
            <p:cNvSpPr/>
            <p:nvPr/>
          </p:nvSpPr>
          <p:spPr>
            <a:xfrm flipV="1">
              <a:off x="2863800" y="4231440"/>
              <a:ext cx="3416400" cy="739800"/>
            </a:xfrm>
            <a:custGeom>
              <a:avLst/>
              <a:gdLst>
                <a:gd name="textAreaLeft" fmla="*/ 514080 w 3416400"/>
                <a:gd name="textAreaRight" fmla="*/ 2902320 w 3416400"/>
                <a:gd name="textAreaTop" fmla="*/ 111240 h 739800"/>
                <a:gd name="textAreaBottom" fmla="*/ 628560 h 73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8c7b7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fli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_s1032"/>
            <p:cNvSpPr/>
            <p:nvPr/>
          </p:nvSpPr>
          <p:spPr>
            <a:xfrm flipV="1">
              <a:off x="2436840" y="4971240"/>
              <a:ext cx="4270320" cy="739800"/>
            </a:xfrm>
            <a:custGeom>
              <a:avLst/>
              <a:gdLst>
                <a:gd name="textAreaLeft" fmla="*/ 583200 w 4270320"/>
                <a:gd name="textAreaRight" fmla="*/ 3687120 w 4270320"/>
                <a:gd name="textAreaTop" fmla="*/ 100800 h 739800"/>
                <a:gd name="textAreaBottom" fmla="*/ 639000 h 73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c7b7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rus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c08d"/>
                </a:solidFill>
                <a:latin typeface="Arial"/>
              </a:rPr>
              <a:t>Inattention to RESULT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tat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Understand that your status is not based off of what you do alone for the team but what you do for and with the tea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can be no issues of the 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the issue of the team trying to seek individual attention and recog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6" descr="MCPE06128_0000[1]"/>
          <p:cNvPicPr/>
          <p:nvPr/>
        </p:nvPicPr>
        <p:blipFill>
          <a:blip r:embed="rId1"/>
          <a:stretch/>
        </p:blipFill>
        <p:spPr>
          <a:xfrm>
            <a:off x="4572000" y="1600200"/>
            <a:ext cx="3657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Suggestions for overcoming Results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 based rewards- tie the rewards to compens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declaration of results- commit public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c08d"/>
                </a:solidFill>
                <a:latin typeface="Arial"/>
              </a:rPr>
              <a:t>Absence of TRUS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ulner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Have each person acknowledge their strengths and weaknesses to the te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MCBD05584_0000[1]"/>
          <p:cNvPicPr/>
          <p:nvPr/>
        </p:nvPicPr>
        <p:blipFill>
          <a:blip r:embed="rId1"/>
          <a:stretch/>
        </p:blipFill>
        <p:spPr>
          <a:xfrm>
            <a:off x="990720" y="1752480"/>
            <a:ext cx="320040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Suggestions for overcoming Trust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onal History Exercise- 30minutes, have staff relate something personal of the past through a question that is giv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m effectiveness exercise- 60minutes, have staff identify the single most important contribution that each team member m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onality and behavioral preferences profiles- 4hours, this tool provides practical and scientifically valid behavioral descriptions of team me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c08d"/>
                </a:solidFill>
                <a:latin typeface="Arial"/>
              </a:rPr>
              <a:t>Fear of CONFLIC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graphicFrame>
        <p:nvGraphicFramePr>
          <p:cNvPr id="71" name="Object 5"/>
          <p:cNvGraphicFramePr/>
          <p:nvPr/>
        </p:nvGraphicFramePr>
        <p:xfrm>
          <a:off x="457200" y="1371600"/>
          <a:ext cx="4035600" cy="467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403560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ificial Harmo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one holds back their opinion and/or honest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ack of confl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Suggestions for overcoming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acknowledge that conflict is produ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make sure meetings are lively and inter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minimize POLITICS (the schools are bad about this o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3:07:33Z</dcterms:created>
  <dc:creator>WSFCS Workstation</dc:creator>
  <dc:description/>
  <dc:language>en-US</dc:language>
  <cp:lastModifiedBy>AEURY</cp:lastModifiedBy>
  <dcterms:modified xsi:type="dcterms:W3CDTF">2011-10-31T14:59:09Z</dcterms:modified>
  <cp:revision>7</cp:revision>
  <dc:subject/>
  <dc:title>The Five DYSFUNCTIONS of TEAM</dc:title>
</cp:coreProperties>
</file>